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3E70-594E-4CCA-95E3-C994ED964C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22FC-428F-4F4F-8F3C-5FD5DA27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ADD0-535C-4AF3-A767-FDAB4600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43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82520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43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4097520"/>
            <a:ext cx="2538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FF02-4B50-4CC4-B28F-7AA892F43B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BE8E-B6EE-435E-AEF3-5FE5A0AC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4650-011D-4FC7-8A12-2AF0328A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DE2B5-D16B-45B2-BC01-D06229E0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823B0-8859-4EA6-85F3-61BC8E55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65040"/>
            <a:ext cx="788508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42B7-C58A-4037-8F81-CA6DE147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46CF-8B34-4957-ACC7-2D1EF6B5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52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641D-7B48-48C7-AFA9-2FD28D0D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5200"/>
            <a:ext cx="38476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97520"/>
            <a:ext cx="788508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F2E8-567A-476B-8C7E-92E0294F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78850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5200"/>
            <a:ext cx="78850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B57B9D-6423-4745-8C17-7EC0A4D1F3BC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8520" y="2098800"/>
            <a:ext cx="8602560" cy="37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191966"/>
                </a:solidFill>
                <a:latin typeface="Arial Black"/>
              </a:rPr>
              <a:t>Acordo 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191966"/>
                </a:solidFill>
                <a:latin typeface="Arial Black"/>
              </a:rPr>
              <a:t>Cooper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191966"/>
                </a:solidFill>
                <a:latin typeface="Arial Black"/>
              </a:rPr>
              <a:t>Técnica –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6480" y="549360"/>
            <a:ext cx="9156960" cy="10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Vigênci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 ACT vigorará pelo prazo de 60 (sessenta) meses, a contar da publicação no D.O.U., podendo ser prorrogado por igual período, de acordo com o interesse de ambos os partíci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nforme o disposto no Art. 21 do Decreto nº 8.726/2016, “[a] cláusula de vigência de que trata o inciso VI do caput do Art. 42 da Lei nº 13.019/2014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72880" y="1065240"/>
            <a:ext cx="857268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AGNALDO NOVATO CURADO FIL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iretor de Benefí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pt-BR" sz="2500" spc="-1" strike="noStrike" u="sng">
                <a:solidFill>
                  <a:srgbClr val="003366"/>
                </a:solidFill>
                <a:uFillTx/>
                <a:latin typeface="Calibri"/>
              </a:rPr>
              <a:t>aguinaldo.novato@inss.gov.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11280" y="1576440"/>
            <a:ext cx="79214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</a:rPr>
              <a:t>Acordo de Cooperação Técnica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</a:rPr>
              <a:t>desconto de mensalidades associativas 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191966"/>
                </a:solidFill>
                <a:latin typeface="Arial"/>
              </a:rPr>
              <a:t>benefícios previdenciários dos afiliados à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191966"/>
                </a:solidFill>
                <a:latin typeface="Arial"/>
              </a:rPr>
              <a:t>Art. 115, V, da Lei 8.213/9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08000" y="1052640"/>
            <a:ext cx="90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191966"/>
                </a:solidFill>
                <a:latin typeface="Arial Black"/>
              </a:rPr>
              <a:t>Acordo de Cooperação Técnica –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1200" y="1141560"/>
            <a:ext cx="82296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Âmbito dos Acor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9875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2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acionais – solicitados à Diretoria de Benefícios, desde que possuam unidades representativas em diversos 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5698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Aspectos Gerai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Expressa e livre manifestação de vontade do associad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Autorização para desconto das mensalidades nos benefícios, devidamente assinada pelos afiliad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A entidade não recebe remuneração do INSS e nem dos beneficiári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Percentual de desconto aprovado em Assembleia Ger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Regime de mútua cooperação entre os partícipes;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Elaboração de Plano de Trabal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 u="sng">
                <a:solidFill>
                  <a:srgbClr val="0070c0"/>
                </a:solidFill>
                <a:uFillTx/>
                <a:latin typeface="Calibri Light"/>
                <a:ea typeface="Microsoft YaHei"/>
              </a:rPr>
              <a:t>Plano de Trabalh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84464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  <a:ea typeface="Microsoft YaHei"/>
              </a:rPr>
              <a:t>O Plano de Trabalho, que é parte integrante do ACORDO, conterá os procedimentos operacionais para a execução do objeto, que terá início a partir da sua publicação no Diário Oficial da União – DOU.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5698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Fiscalizaçã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iscalização preven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brigação da entidade na coleta prévia da autorização dos segurados e seu arquivamento para fiscalização por parte do IN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 entidade deve organizar todas as autorizações na ordem solicitada pelo INSS, com vistas na agilização e eficiência durante a fisca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 INSS realiza periodicamente fiscalizações ordinárias e extraordinári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as fiscalizações periódicas o objetivo é comprovar a existência e a regularidade dos formulários de autorização assinados pelos segur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5960" y="777960"/>
            <a:ext cx="78865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Fiscalizaçã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8560" y="1413000"/>
            <a:ext cx="79758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s autorizações não encontradas são excluídas e a entidade restitui os valores ao beneficiário, corrigidos, com glosa pelo INSS sobre os montantes recebidos pelo Acord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 assinatura da autorização não reconhecida pelo afiliado da entidade, a mesma responderá civil e penal, com devolução dos valores e glosa sobre os monta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scontos irregulares são encaminhados ao MPF para fins de apuração de responsabilidade civil e pe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dênticas providências são tomadas em casos de descontos maiores do que o devido, ou a título diverso do de mensalidade associativ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xpressivo rigor nas fiscalizações culminando inclusive em punições a ent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2560"/>
                <a:tab algn="l" pos="1368360"/>
                <a:tab algn="l" pos="2054160"/>
                <a:tab algn="l" pos="2739960"/>
                <a:tab algn="l" pos="3425760"/>
                <a:tab algn="l" pos="4111560"/>
                <a:tab algn="l" pos="4797360"/>
                <a:tab algn="l" pos="5483160"/>
                <a:tab algn="l" pos="6168960"/>
                <a:tab algn="l" pos="6854760"/>
                <a:tab algn="l" pos="7540560"/>
                <a:tab algn="l" pos="8226360"/>
                <a:tab algn="l" pos="8912160"/>
                <a:tab algn="l" pos="9597960"/>
                <a:tab algn="l" pos="1028376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5698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Demonstrativo do Número de Associados e o         % de Desco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6308640"/>
            <a:ext cx="73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ta: (VB) = Valor do Benefício e (SM) Salário Mínimo vig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530360"/>
          <a:ext cx="8148240" cy="4754160"/>
        </p:xfrm>
        <a:graphic>
          <a:graphicData uri="http://schemas.openxmlformats.org/drawingml/2006/table">
            <a:tbl>
              <a:tblPr/>
              <a:tblGrid>
                <a:gridCol w="563400"/>
                <a:gridCol w="1951560"/>
                <a:gridCol w="1434960"/>
                <a:gridCol w="4198320"/>
              </a:tblGrid>
              <a:tr h="67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IDADE DE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 ASSO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DESCO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P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.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BA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.3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.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informado pelo associado no limite de R$ 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B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50.7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TAP/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Urbano e 2% Rural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TRA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DNAPI/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DA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DIA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01760" y="692280"/>
            <a:ext cx="82296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ts val="3824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70c0"/>
                </a:solidFill>
                <a:latin typeface="Calibri Light"/>
                <a:ea typeface="Microsoft YaHei"/>
              </a:rPr>
              <a:t>Demonstrativo do Número de Associados e o         % de Desco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544760" y="0"/>
            <a:ext cx="1212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4360" y="63817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ota: (VB) = Valor do Benefício e (SM) Salário Mínimo vig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1530360"/>
          <a:ext cx="8065800" cy="4754160"/>
        </p:xfrm>
        <a:graphic>
          <a:graphicData uri="http://schemas.openxmlformats.org/drawingml/2006/table">
            <a:tbl>
              <a:tblPr/>
              <a:tblGrid>
                <a:gridCol w="581040"/>
                <a:gridCol w="2129400"/>
                <a:gridCol w="1261800"/>
                <a:gridCol w="4093560"/>
              </a:tblGrid>
              <a:tr h="72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IDADE DE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º ASSO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DE DESCO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do (SM) vig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81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FR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 (SM) Antigos e 1,5% (VB) No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1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AM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5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 (VB) até o máximo de R$ 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8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F/CNTT/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TRAAPI/C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8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AAM – 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 a 5% (V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G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 a 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Joselias Castro Amorim - INSSRN</cp:lastModifiedBy>
  <cp:lastPrinted>2018-12-05T12:47:30Z</cp:lastPrinted>
  <dcterms:modified xsi:type="dcterms:W3CDTF">2018-12-05T12:52:02Z</dcterms:modified>
  <cp:revision>43</cp:revision>
  <dc:subject/>
  <dc:title>Slide 1</dc:title>
</cp:coreProperties>
</file>